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3DD-F268-422D-B639-0119E179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209-E531-4728-8372-220473C9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91F-0117-4425-880F-1273269F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172-5D8F-435E-8AE8-825BE20C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EF5-992C-4611-92A8-C470CE14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3CF-8356-4B2A-898F-415BDC8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43E-659B-424C-8D27-362DAF22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125-E735-4504-8974-70C9EFF1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562-F0C0-4A64-A60F-DA97A85E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9C5-10F5-4713-851B-D253FA9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6A8-4E7B-429C-889C-25F8DC5E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EB4-428C-4F0C-BF2E-6731487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9C7-A98B-452E-BA98-FEF35527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335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1.5   Adding Integers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1.6   Subtracting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572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 – Paper – Sci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7391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: Using Models to Add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ules to Add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odels to Subtract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Rules to Subtract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186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891540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943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029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questions from any of the objec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20:01:26Z</dcterms:created>
  <dc:creator>Susannah Graham</dc:creator>
  <dc:description/>
  <dc:language>en-US</dc:language>
  <cp:lastModifiedBy>Graham</cp:lastModifiedBy>
  <dcterms:modified xsi:type="dcterms:W3CDTF">2011-08-18T12:57:06Z</dcterms:modified>
  <cp:revision>3</cp:revision>
  <dc:subject/>
  <dc:title>Slide 1</dc:title>
</cp:coreProperties>
</file>